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7C6A-1B3B-4F34-B665-453953EF9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C0DD-8E8B-4FF6-BCD3-40B8184FD6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8591-D638-4F6E-B8E5-26FD154349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262C-0527-4924-A016-F5D9562266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60E3-E076-48C0-9FA5-2605EE96FF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182C-C4D2-40F9-A68E-3C87A714D3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B1AF-39AE-42AA-B909-3284C3E0FB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72A9-86C2-41CB-8EAF-8B58FA5384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EF15-C94E-45B3-9739-938070767E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4637-7749-4656-BFD6-8E9093815D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6AA4-CDD1-4FCC-9D17-5DC800D9CE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22C5-D3AA-4257-94B4-4BA7CD9945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BD3E-444F-4FA4-8064-96A70D6C6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CE7C-64BB-4BA8-BBD5-97B5BC36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D6EF-D1F5-4625-9058-9F754E494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36AB-1B9B-4385-B598-34E69EAD9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F521-FD34-4DD8-AFB9-DED25A1D7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C355-F551-4D30-8BAA-0DB67B15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75A0-6C39-4596-B38E-3BAE5228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B0E3F-E776-4FB2-AFD0-3BEB58FF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91B3-1393-44A5-973B-5D725BE2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1921-863E-4B3B-B6C6-244B6958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46BA-E7D0-4903-99C9-A75406A4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0D5C-267E-44C4-B6A7-A84CA300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D287-A0FC-4F4D-8818-3076C225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3496-8F56-4EB5-95BF-D7E5EEA7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B201-7405-4E75-A6BF-733C226B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8D58-1F86-4EB4-848D-7CC558A4C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B2BE-BE49-4757-BE59-CCA47C31A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647D-4795-44DF-BCA6-6719A344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C4A1-7CDB-4C64-B02F-A5723B0F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3EA9-49C7-4666-A602-8227C4F1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7A98-36B8-4F58-BB84-EEAA5C16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E0F2-8321-4B2B-9D5F-82166CC9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FD7F-E394-4C04-B6F9-9F06553F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FCF2-F695-4F85-A6B4-2B15B00A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36E0-7CA9-489B-B6DF-A067809730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791C-C2F6-461A-97C4-608427F44A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URRICULUM DEVELOPMEN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IMS OF EDUC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 LEARNERS INTELLECTUAL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 LEARNERS AS FUNCTIONING CITIZE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 LEARNERS AS INDIVIDUALS IN OUR SOCIE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 LEARNERS AS ACTUAL OR POTENTIAL LEAR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CHOOLS OF THOUGH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ENNIALIS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AVE ABSOLUTE ESSENTIALS AND TEACH IN SEPER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DEALIS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ALITY EXISTS IN EXPERIE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ALIS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ORY PRECEEDS PRACT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AGMATIS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W TO THINK RATHER THAT WHAT TO THIN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CONSTRUCTIONIS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BUILD THE CULTU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ISTENTIALIS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REEDOM OF CHO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LEMENTS OF CURRICULU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JECT MAT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R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E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RITICAL QUES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O SHOULD BE EDUCATED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O CAN BE EDUCATED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KIND OF EDUCATIONAL EXPERIENCES SHOULD BE OFFERED TO GIVEN GROUPS OF LEARN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MUCH CAN OUR NATION AFFORD TO SPEND ON EDUCATIO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WHAT EXTENT SHOULD EDUCATION BE UNIFORM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CAN THE NEEDS OF THE OUR GREAT VARIETY OF LEARNERS BE ME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EANING OF CURRICULU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THE EXPERIENCES UNDER THE AUSPICES OF A 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URRICULUM THEORI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E-CHO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G BU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POWER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UCATION IN BAL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NSFORM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NEEDS OF EDUC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Y STRENGTH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ONENT GRADUA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OPPORTUN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ENGTHEN WORK ETH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ROVE PERFORM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ILD DECISION-MA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IVIDUALIZE TEACHING AND LEAR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NISTER TO SPECIAL N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EK CURRICULUM BAL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DDITIONAL NEE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SS DISMAL AND UNINSPIR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POWER TEAC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ROVE USE OF 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ITALIZE ON OUTSIDE EXPERI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PHASIZE SOCIAL RESPONSI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SCHOOLS TRULY HUMA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MOTE INTELLECTUAL ENDEAV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UTURE DEVELOPME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REASED KNOWLED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ACTIVE ELECTRONI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JECTICE CURRICULUM PLAN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NGTH OF DAY AND YE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E FRA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ANNING NETWOR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DITIONAL ELECTRONI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UG ENHANCED INTELLIG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W TAX B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KE OVER SCHOO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FETIME LEAR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HILOSOPHICAL VIEW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DITIONALI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GRESSIVI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5:53:24Z</dcterms:created>
  <dc:creator>AEURY</dc:creator>
  <dc:description/>
  <dc:language>en-US</dc:language>
  <cp:lastModifiedBy>User</cp:lastModifiedBy>
  <dcterms:modified xsi:type="dcterms:W3CDTF">2012-08-22T18:07:34Z</dcterms:modified>
  <cp:revision>3</cp:revision>
  <dc:subject/>
  <dc:title>CURRICULUM DEVELOPMENT</dc:title>
</cp:coreProperties>
</file>